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5AB-7F83-4CE8-B621-1822CD23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4AC-E839-4208-B82C-19E4633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6C7-07C3-4FFC-87B3-5D2EF3A2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620-D665-4B3D-899E-ABC3AD6A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07E5-FC89-4C83-A992-E16B8E8B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28C4-2FCD-45CE-82E8-A3E567BE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971E-8F42-4757-B10D-180F7AFC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9A07-C0B1-4819-8A6A-BFEFBB71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737-AD59-4E17-91B1-E9F4DB01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BCB4-BB5E-424D-9DAE-F18F5C06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DDD0-0671-4446-8B35-83A4C72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532-668A-4A0B-A8FD-2764D098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3F89-8101-487C-A64F-F3E5C3C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1C32-FE11-431B-8B25-33D94EE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13D7-2C4A-4769-A08C-436DE57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72D8-05A3-4677-8626-C0FDFF1B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7B8D-0598-4D4D-9AAB-AD57D7EE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383-6321-4FEF-8340-95BDBBF3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254-16E7-40DD-9C21-90535514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BC0-5016-4328-8805-DBF2E0C9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C35-65CA-4554-A182-96596ACC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6DD-01E8-4ABE-959F-AC93F8F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524-5852-4006-A0A1-41CB2C6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C2E-B49A-476B-BC12-A95AC71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956F-3F38-4B7C-B98A-AA3ABD4F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73DC-08E1-46FC-B03E-F5BBD0964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- Abor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ber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LY’s List (Early Money Is Like Ye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Paren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ativ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Abortion Rights Action League (NA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ight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Civil Righ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Organization for Women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Association for the Advancement of Colored People (NAA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Defamation Le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Civil Liberties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bow/PUSH Coal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Center for Political and Economic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Indian Movement (A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Lobbyists Exi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s in American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oints of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arties are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20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Interest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2670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al (or Sec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(or Single Iss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peop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titutional Organiz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ector of the American economy that needs “protection” from other groups (external and in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ition of groups who have same goal (even if they are competitors of each o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Chamber of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 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mbership Organiz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 to make a person’s voice louder, so the government can hear it (generally members are “hardcore” believers of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“sympathetic” support from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rra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people joi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2880" y="1523520"/>
            <a:ext cx="7970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idary (social 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groups exist to help National Organization do the “heavy lifting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terial (economic 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people to an organization to increase clout (in numbers and mon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ive (ideological 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Movements (often helps non-me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, Civil Rights, Feminism, 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143000" y="1676520"/>
          <a:ext cx="7620120" cy="42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62012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business of expressing your viewpoints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0720" y="407880"/>
          <a:ext cx="5943600" cy="584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07880"/>
                    <a:ext cx="594360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879800" y="304920"/>
          <a:ext cx="395928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304920"/>
                    <a:ext cx="3959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Edu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ber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ederation of Teachers (A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Education Association (N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ativ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Education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Excellenc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Enviro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rra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Wildlife Federation (NW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Defense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Forestry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ance for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the Defense of Free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Gay Righ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y &amp; Lesbian Alliance Against Defamation (GL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Cabin 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ights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Family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Research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Gun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 Policy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ition to Stop Gun Violence (CSG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 Committee for the Right to Keep and Bear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n Owners of America (G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ifle Association (N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Health C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edical Association (A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Public Health Association (AP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Council on Science and Health (AC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s Against Drunk Driving (MAD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Immig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b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Immigration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Immigration Studies (C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tion for American Immigration Reform (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Un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L-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Worker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itag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ight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hamber of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est Groups – Social Secur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54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Association of Retired Persons (AA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o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20:28:01Z</dcterms:created>
  <dc:creator>Brent J. Freccia</dc:creator>
  <dc:description/>
  <dc:language>en-US</dc:language>
  <cp:lastModifiedBy>Brent J. Freccia</cp:lastModifiedBy>
  <dcterms:modified xsi:type="dcterms:W3CDTF">2008-12-17T14:13:25Z</dcterms:modified>
  <cp:revision>2</cp:revision>
  <dc:subject/>
  <dc:title>What is their problem?</dc:title>
</cp:coreProperties>
</file>